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E42-6DD5-48E2-B840-FE624B44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A57-BFC8-4327-819C-5DF947D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AD2-0E0F-41DC-8E6E-97B445D3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387-C4DA-4830-91CF-455ADFC4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4FE-339F-451E-B5B8-66ECF6B6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F9E-3E63-4467-972A-1663FAB9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BC5-95B5-43E0-B836-11F7851A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E23-6956-40FD-AF43-5C94E65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897-5372-4ADF-9FEB-60D07874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10E-BCBD-4774-90C7-C0FF694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9F0-3F58-4241-8C3F-EF3E539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06A-FEA7-4B2C-A968-BB69A0F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C35-8965-4F54-9F90-B661F3788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diction Serv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mos and Q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A. Di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U 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diction System For Remos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828800" y="53341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4495680"/>
            <a:ext cx="2286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5715000"/>
            <a:ext cx="3429000" cy="914400"/>
          </a:xfrm>
          <a:prstGeom prst="wedgeRoundRectCallout">
            <a:avLst>
              <a:gd name="adj1" fmla="val 37592"/>
              <a:gd name="adj2" fmla="val -592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760" y="57898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1828800" y="3428640"/>
            <a:ext cx="2286720" cy="1296000"/>
          </a:xfrm>
          <a:prstGeom prst="bentConnector3">
            <a:avLst>
              <a:gd name="adj1" fmla="val 9998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3352680" y="2819520"/>
            <a:ext cx="1524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28195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3720" y="144648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s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10648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s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Past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CC4-F780-4AED-ABFC-990BD7ACFE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flexible component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BA/Java/Whatever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most internet protocols (UDP, TCP, Multicast, pipes, fi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BA, no threads, no Java, minimal Unix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after initial CORBA, LDOS implementation atte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F83-F488-4C2D-9387-E658D78E83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743200" y="1676520"/>
            <a:ext cx="3124080" cy="4343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4495680"/>
            <a:ext cx="5029200" cy="1524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rror C++ Template Class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2743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9720" y="2056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4720" y="2513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000" y="29707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7120" y="34279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40" y="3808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d Callb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975760" y="2056320"/>
            <a:ext cx="1245960" cy="459720"/>
            <a:chOff x="2975760" y="2056320"/>
            <a:chExt cx="1245960" cy="459720"/>
          </a:xfrm>
        </p:grpSpPr>
        <p:sp>
          <p:nvSpPr>
            <p:cNvPr id="339" name=""/>
            <p:cNvSpPr/>
            <p:nvPr/>
          </p:nvSpPr>
          <p:spPr>
            <a:xfrm>
              <a:off x="3047760" y="20574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75760" y="20563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775640" y="502776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975760" y="2513520"/>
            <a:ext cx="1245960" cy="459720"/>
            <a:chOff x="2975760" y="2513520"/>
            <a:chExt cx="1245960" cy="459720"/>
          </a:xfrm>
        </p:grpSpPr>
        <p:sp>
          <p:nvSpPr>
            <p:cNvPr id="343" name=""/>
            <p:cNvSpPr/>
            <p:nvPr/>
          </p:nvSpPr>
          <p:spPr>
            <a:xfrm>
              <a:off x="3047760" y="25146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5760" y="25135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975760" y="2970720"/>
            <a:ext cx="1245960" cy="459720"/>
            <a:chOff x="2975760" y="2970720"/>
            <a:chExt cx="1245960" cy="459720"/>
          </a:xfrm>
        </p:grpSpPr>
        <p:sp>
          <p:nvSpPr>
            <p:cNvPr id="346" name=""/>
            <p:cNvSpPr/>
            <p:nvPr/>
          </p:nvSpPr>
          <p:spPr>
            <a:xfrm>
              <a:off x="3047760" y="29718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75760" y="29707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975760" y="3427920"/>
            <a:ext cx="1245960" cy="459720"/>
            <a:chOff x="2975760" y="3427920"/>
            <a:chExt cx="1245960" cy="459720"/>
          </a:xfrm>
        </p:grpSpPr>
        <p:sp>
          <p:nvSpPr>
            <p:cNvPr id="349" name=""/>
            <p:cNvSpPr/>
            <p:nvPr/>
          </p:nvSpPr>
          <p:spPr>
            <a:xfrm>
              <a:off x="3047760" y="34290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5760" y="34279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975760" y="3885120"/>
            <a:ext cx="1245960" cy="459720"/>
            <a:chOff x="2975760" y="3885120"/>
            <a:chExt cx="1245960" cy="459720"/>
          </a:xfrm>
        </p:grpSpPr>
        <p:sp>
          <p:nvSpPr>
            <p:cNvPr id="352" name=""/>
            <p:cNvSpPr/>
            <p:nvPr/>
          </p:nvSpPr>
          <p:spPr>
            <a:xfrm>
              <a:off x="3047760" y="38862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75760" y="38851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975760" y="4647240"/>
            <a:ext cx="1245960" cy="459720"/>
            <a:chOff x="2975760" y="4647240"/>
            <a:chExt cx="1245960" cy="459720"/>
          </a:xfrm>
        </p:grpSpPr>
        <p:sp>
          <p:nvSpPr>
            <p:cNvPr id="355" name=""/>
            <p:cNvSpPr/>
            <p:nvPr/>
          </p:nvSpPr>
          <p:spPr>
            <a:xfrm>
              <a:off x="3047760" y="464832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75760" y="464724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975760" y="5256720"/>
            <a:ext cx="1245960" cy="459720"/>
            <a:chOff x="2975760" y="5256720"/>
            <a:chExt cx="1245960" cy="459720"/>
          </a:xfrm>
        </p:grpSpPr>
        <p:sp>
          <p:nvSpPr>
            <p:cNvPr id="358" name=""/>
            <p:cNvSpPr/>
            <p:nvPr/>
          </p:nvSpPr>
          <p:spPr>
            <a:xfrm>
              <a:off x="3047760" y="52578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75760" y="52567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11320" y="438804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7640" y="507384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Req/R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95680" y="2057400"/>
            <a:ext cx="10670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3879000" y="33584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w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2286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7840" y="5180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8400" y="2056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7680" y="2513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8400" y="29707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9120" y="33516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00560" y="388512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040800" y="5027400"/>
            <a:ext cx="1578960" cy="825480"/>
            <a:chOff x="6040800" y="5027400"/>
            <a:chExt cx="1578960" cy="825480"/>
          </a:xfrm>
        </p:grpSpPr>
        <p:sp>
          <p:nvSpPr>
            <p:cNvPr id="386" name=""/>
            <p:cNvSpPr/>
            <p:nvPr/>
          </p:nvSpPr>
          <p:spPr>
            <a:xfrm>
              <a:off x="6048000" y="5097960"/>
              <a:ext cx="157176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40800" y="5027400"/>
              <a:ext cx="15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 Re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5627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01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F66-DDD0-4131-A7DB-5074345F4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rror C++ Template Class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d by hand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handlers for 2 kinds of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abl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everal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ing, Req/Resp, Compute-on-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10D-EEE7-4AA8-813E-FF2A82DFDF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easurement Buffer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SOURCEHANDLER,class SOURCECONNECTHANDLER,class REQUESTRESPONSEHANDLER, class REQUESTRESPONSECONNECTHANDLER&gt; class Mirror : public AbstractMirror 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SERIN, class COMPUTE, class SEROUT&gt; class GenericSerializeableInputComputeOutputMirror : public SerializeableMirror&lt;SERIN, SerializeableMirrorInputComputeOutputHandler&lt;SERIN,COMPUTE,SEROUT&gt;, GenericMirrorNewConnectionHandler,NullHandler, NullHandler&gt; 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SERIN&gt; class BufferingSerializeableMirror :  public SerializeableMirror&lt;SERIN,SerializeableMirrorInputHandler&lt;SERIN&gt;,GenericMirrorNewConnectionHandler,                                         BufferDataRequestResponseHandler&lt;SERIN&gt;, GenericMirrorNewRequestResponseConnectionHandler&gt; 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ypedef BufferingSerializeableMirror&lt;Measurement&gt; MeasureBuff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9AA-784F-4784-9230-C47449EE98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easurement Buffer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sureBuffer mirror(dep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=2;i&lt;argc;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p = new EndPo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p-&gt;Parse(argv[i])) { exit(-1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rror.AddEndPoint(*e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rror.Ru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3657600"/>
            <a:ext cx="88394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nce&lt;BufferDataRequest,BufferDataReply&lt;Measurement&gt;&gt; re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ferDataRequest 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ferDataReply&lt;Measurement&gt; rep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.ConnectTo((new EndPoint())-&gt;Parse(argv[2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q.num=n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.Call(req,rep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=0;i&lt;repl.num;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epl.data[i].Print(stder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393320" y="11422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50880" y="41904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085-7041-4A99-8B92-F9C07AE07A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Lines From 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907560"/>
            <a:ext cx="556272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loadserver 1000000  target:file:stdout connect:tcp:5000 target:udp:239.99.99.99:5000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2measure 0 source:file:stdin connect:tcp:5001 target:file:stdout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easurebuffer 100 source:file:stdin target:file:stdout server:tcp:50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server 8 source:file:stdin target:file:stdout connect:tcp:5003 target:udp:239.99.99.99:5003 |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buffer 100 source:file:stdin target:file:stdout server:tcp:5004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client source:file: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91404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oad and streams to stdout, multicast, connected TCP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19807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stream from stdin, make generic, stream to TCP and 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97144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din stream, stream to stdout, accept tcp requests for buffer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41158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stdin stream 8 steps ahead, stream preds to stdout, TCP, and multi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5181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predictions from stdin, stream to stdout, accept tcp requests for buffer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6095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stdin pred stream and 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EFA-DBA3-4C13-9640-B3767775A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 Implementati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flexible componen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,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mplementation issues: Instantiation and naming problem: Who instantiates components, how do we find the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really a Remos/QuO issue - we all need to sol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. You name it, you can communicate with it on as many channels as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.  You only need g++ 2.7.2 or later or similar C++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on: Linux, FreeBSD, Solaris, D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A9D-C4FE-4170-9F0B-1222C71DE9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kun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integration with 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integration of Remos with Q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instantiation and nam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?  Glo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diction service to dynamically map a RT interactive application and show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, OpenMap, DynBench, Feature tracking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ME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668-FF82-4285-9324-8096A541D0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gangen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load study (LCR98, SciProg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similarity, epochal behavio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 linear models for host load prediction (TR 98-174, sub. to HPDC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statement: “AR(16) models or better are appropriate for Host Load Pr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flailing on applications (WPDRTS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8CB-A25B-4274-8C8E-5AA3EE6B6E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s in Q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’s Prediction Service in R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E20-32E9-425D-818E-E44D98F98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e Davis “Hello World”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10560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477120" y="1165320"/>
            <a:ext cx="2514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oose whether to fetch a small or large image from the Bette Davis Server based on predicted network and host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Systems (BBN QuO, CMU Remos, Peter’s Prediction 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Programming Languages (i386 assembly, C, C++, Java, Fortran 77, CORBA IDL, BBN SDL, BBN CDL, Perl, 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129360"/>
            <a:ext cx="373392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41" y="4985"/>
                </a:moveTo>
                <a:lnTo>
                  <a:pt x="22950" y="4985"/>
                </a:lnTo>
                <a:lnTo>
                  <a:pt x="22950" y="-66462"/>
                </a:lnTo>
                <a:lnTo>
                  <a:pt x="14189" y="-138531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3280" y="61714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twork and Host Load 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666880" y="2666880"/>
            <a:ext cx="15242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5AE-DDEE-41A4-B52F-0B4D8D49B0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1980720" y="44197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80720" y="1676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23720" y="20574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049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6200" y="318960"/>
            <a:ext cx="581040" cy="285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1720" y="514440"/>
            <a:ext cx="77796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371240"/>
            <a:ext cx="1600200" cy="609480"/>
            <a:chOff x="457200" y="1371240"/>
            <a:chExt cx="1600200" cy="609480"/>
          </a:xfrm>
        </p:grpSpPr>
        <p:sp>
          <p:nvSpPr>
            <p:cNvPr id="60" name=""/>
            <p:cNvSpPr/>
            <p:nvPr/>
          </p:nvSpPr>
          <p:spPr>
            <a:xfrm rot="16200000">
              <a:off x="952560" y="8758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320" y="15066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14600" y="1522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Model of Q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362320"/>
            <a:ext cx="14479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5627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1720" y="5776920"/>
            <a:ext cx="89820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4114440"/>
            <a:ext cx="1600200" cy="609480"/>
            <a:chOff x="457200" y="4114440"/>
            <a:chExt cx="1600200" cy="609480"/>
          </a:xfrm>
        </p:grpSpPr>
        <p:sp>
          <p:nvSpPr>
            <p:cNvPr id="67" name=""/>
            <p:cNvSpPr/>
            <p:nvPr/>
          </p:nvSpPr>
          <p:spPr>
            <a:xfrm rot="16200000">
              <a:off x="952560" y="36190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5320" y="42498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43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24280" y="2057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20574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2952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438280" y="2361960"/>
            <a:ext cx="1295280" cy="609480"/>
            <a:chOff x="2438280" y="2361960"/>
            <a:chExt cx="1295280" cy="609480"/>
          </a:xfrm>
        </p:grpSpPr>
        <p:sp>
          <p:nvSpPr>
            <p:cNvPr id="76" name=""/>
            <p:cNvSpPr/>
            <p:nvPr/>
          </p:nvSpPr>
          <p:spPr>
            <a:xfrm flipV="1">
              <a:off x="243828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532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86200" y="2361960"/>
            <a:ext cx="1295280" cy="609480"/>
            <a:chOff x="3886200" y="2361960"/>
            <a:chExt cx="1295280" cy="609480"/>
          </a:xfrm>
        </p:grpSpPr>
        <p:sp>
          <p:nvSpPr>
            <p:cNvPr id="79" name=""/>
            <p:cNvSpPr/>
            <p:nvPr/>
          </p:nvSpPr>
          <p:spPr>
            <a:xfrm flipV="1">
              <a:off x="3886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3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4120" y="2361960"/>
            <a:ext cx="1295280" cy="609480"/>
            <a:chOff x="5334120" y="2361960"/>
            <a:chExt cx="1295280" cy="609480"/>
          </a:xfrm>
        </p:grpSpPr>
        <p:sp>
          <p:nvSpPr>
            <p:cNvPr id="82" name=""/>
            <p:cNvSpPr/>
            <p:nvPr/>
          </p:nvSpPr>
          <p:spPr>
            <a:xfrm flipV="1">
              <a:off x="533412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116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315200" y="2361960"/>
            <a:ext cx="1295280" cy="609480"/>
            <a:chOff x="7315200" y="2361960"/>
            <a:chExt cx="1295280" cy="609480"/>
          </a:xfrm>
        </p:grpSpPr>
        <p:sp>
          <p:nvSpPr>
            <p:cNvPr id="85" name=""/>
            <p:cNvSpPr/>
            <p:nvPr/>
          </p:nvSpPr>
          <p:spPr>
            <a:xfrm flipV="1">
              <a:off x="7315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2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105520" y="15238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23720" y="48006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8006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724280" y="48006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48006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0384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38280" y="5105160"/>
            <a:ext cx="1295280" cy="609480"/>
            <a:chOff x="2438280" y="5105160"/>
            <a:chExt cx="1295280" cy="609480"/>
          </a:xfrm>
        </p:grpSpPr>
        <p:sp>
          <p:nvSpPr>
            <p:cNvPr id="94" name=""/>
            <p:cNvSpPr/>
            <p:nvPr/>
          </p:nvSpPr>
          <p:spPr>
            <a:xfrm flipV="1">
              <a:off x="243828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532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86200" y="5105160"/>
            <a:ext cx="1295280" cy="609480"/>
            <a:chOff x="3886200" y="5105160"/>
            <a:chExt cx="1295280" cy="609480"/>
          </a:xfrm>
        </p:grpSpPr>
        <p:sp>
          <p:nvSpPr>
            <p:cNvPr id="97" name=""/>
            <p:cNvSpPr/>
            <p:nvPr/>
          </p:nvSpPr>
          <p:spPr>
            <a:xfrm flipV="1">
              <a:off x="388620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324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334120" y="5105160"/>
            <a:ext cx="1295280" cy="609480"/>
            <a:chOff x="5334120" y="5105160"/>
            <a:chExt cx="1295280" cy="609480"/>
          </a:xfrm>
        </p:grpSpPr>
        <p:sp>
          <p:nvSpPr>
            <p:cNvPr id="100" name=""/>
            <p:cNvSpPr/>
            <p:nvPr/>
          </p:nvSpPr>
          <p:spPr>
            <a:xfrm flipV="1">
              <a:off x="533412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116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315200" y="5105160"/>
            <a:ext cx="1295280" cy="609480"/>
            <a:chOff x="7315200" y="5105160"/>
            <a:chExt cx="1295280" cy="609480"/>
          </a:xfrm>
        </p:grpSpPr>
        <p:sp>
          <p:nvSpPr>
            <p:cNvPr id="103" name=""/>
            <p:cNvSpPr/>
            <p:nvPr/>
          </p:nvSpPr>
          <p:spPr>
            <a:xfrm flipV="1">
              <a:off x="731520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9224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05520" y="42670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4C8-D4C9-4D77-A8B9-332BF0A38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86400" y="20574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4038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0720" y="1676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0574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4280" y="2057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0574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2952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049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6200" y="318960"/>
            <a:ext cx="581040" cy="285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1720" y="514440"/>
            <a:ext cx="77796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15238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1371240"/>
            <a:ext cx="1600200" cy="609480"/>
            <a:chOff x="457200" y="1371240"/>
            <a:chExt cx="1600200" cy="609480"/>
          </a:xfrm>
        </p:grpSpPr>
        <p:sp>
          <p:nvSpPr>
            <p:cNvPr id="124" name=""/>
            <p:cNvSpPr/>
            <p:nvPr/>
          </p:nvSpPr>
          <p:spPr>
            <a:xfrm rot="16200000">
              <a:off x="952560" y="8758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5320" y="15066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438280" y="2361960"/>
            <a:ext cx="1295280" cy="609480"/>
            <a:chOff x="2438280" y="2361960"/>
            <a:chExt cx="1295280" cy="609480"/>
          </a:xfrm>
        </p:grpSpPr>
        <p:sp>
          <p:nvSpPr>
            <p:cNvPr id="127" name=""/>
            <p:cNvSpPr/>
            <p:nvPr/>
          </p:nvSpPr>
          <p:spPr>
            <a:xfrm flipV="1">
              <a:off x="243828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1532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886200" y="2361960"/>
            <a:ext cx="1295280" cy="609480"/>
            <a:chOff x="3886200" y="2361960"/>
            <a:chExt cx="1295280" cy="609480"/>
          </a:xfrm>
        </p:grpSpPr>
        <p:sp>
          <p:nvSpPr>
            <p:cNvPr id="130" name=""/>
            <p:cNvSpPr/>
            <p:nvPr/>
          </p:nvSpPr>
          <p:spPr>
            <a:xfrm flipV="1">
              <a:off x="3886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3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34120" y="2361960"/>
            <a:ext cx="1295280" cy="609480"/>
            <a:chOff x="5334120" y="2361960"/>
            <a:chExt cx="1295280" cy="609480"/>
          </a:xfrm>
        </p:grpSpPr>
        <p:sp>
          <p:nvSpPr>
            <p:cNvPr id="133" name=""/>
            <p:cNvSpPr/>
            <p:nvPr/>
          </p:nvSpPr>
          <p:spPr>
            <a:xfrm flipV="1">
              <a:off x="533412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116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438280" y="3505320"/>
            <a:ext cx="61722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Modeler (Query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343400"/>
            <a:ext cx="6172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Coll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AN SNMP, WAN Bench, Host 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15200" y="2361960"/>
            <a:ext cx="1295280" cy="609480"/>
            <a:chOff x="7315200" y="2361960"/>
            <a:chExt cx="1295280" cy="609480"/>
          </a:xfrm>
        </p:grpSpPr>
        <p:sp>
          <p:nvSpPr>
            <p:cNvPr id="138" name=""/>
            <p:cNvSpPr/>
            <p:nvPr/>
          </p:nvSpPr>
          <p:spPr>
            <a:xfrm flipV="1">
              <a:off x="7315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92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708240" y="22860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s in Q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362320"/>
            <a:ext cx="14479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1644480" cy="765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9440" y="5548320"/>
            <a:ext cx="114768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562720"/>
            <a:ext cx="581040" cy="28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1720" y="5776920"/>
            <a:ext cx="89820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2" idx="2"/>
          </p:cNvCxnSpPr>
          <p:nvPr/>
        </p:nvCxnSpPr>
        <p:spPr>
          <a:xfrm rot="5400000">
            <a:off x="590040" y="3447720"/>
            <a:ext cx="610200" cy="5724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 flipH="1" rot="16200000">
            <a:off x="266400" y="4609440"/>
            <a:ext cx="1296360" cy="610560"/>
          </a:xfrm>
          <a:prstGeom prst="bentConnector3">
            <a:avLst>
              <a:gd name="adj1" fmla="val 783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 txBox="1"/>
          <p:nvPr/>
        </p:nvSpPr>
        <p:spPr>
          <a:xfrm>
            <a:off x="2971800" y="3124080"/>
            <a:ext cx="5181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mpedence Mismatch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D05-26FD-4D74-BC11-3F79D1B6D9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486400" y="20574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80720" y="1676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123720" y="20574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2057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20574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952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049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6200" y="318960"/>
            <a:ext cx="581040" cy="285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1720" y="514440"/>
            <a:ext cx="77796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15238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7200" y="1371240"/>
            <a:ext cx="1600200" cy="609480"/>
            <a:chOff x="457200" y="1371240"/>
            <a:chExt cx="1600200" cy="609480"/>
          </a:xfrm>
        </p:grpSpPr>
        <p:sp>
          <p:nvSpPr>
            <p:cNvPr id="167" name=""/>
            <p:cNvSpPr/>
            <p:nvPr/>
          </p:nvSpPr>
          <p:spPr>
            <a:xfrm rot="16200000">
              <a:off x="952560" y="8758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5320" y="15066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38280" y="2361960"/>
            <a:ext cx="1295280" cy="609480"/>
            <a:chOff x="2438280" y="2361960"/>
            <a:chExt cx="1295280" cy="609480"/>
          </a:xfrm>
        </p:grpSpPr>
        <p:sp>
          <p:nvSpPr>
            <p:cNvPr id="170" name=""/>
            <p:cNvSpPr/>
            <p:nvPr/>
          </p:nvSpPr>
          <p:spPr>
            <a:xfrm flipV="1">
              <a:off x="243828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532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86200" y="2361960"/>
            <a:ext cx="1295280" cy="609480"/>
            <a:chOff x="3886200" y="2361960"/>
            <a:chExt cx="1295280" cy="609480"/>
          </a:xfrm>
        </p:grpSpPr>
        <p:sp>
          <p:nvSpPr>
            <p:cNvPr id="173" name=""/>
            <p:cNvSpPr/>
            <p:nvPr/>
          </p:nvSpPr>
          <p:spPr>
            <a:xfrm flipV="1">
              <a:off x="388620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324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334120" y="2361960"/>
            <a:ext cx="1295280" cy="609480"/>
            <a:chOff x="5334120" y="2361960"/>
            <a:chExt cx="1295280" cy="609480"/>
          </a:xfrm>
        </p:grpSpPr>
        <p:sp>
          <p:nvSpPr>
            <p:cNvPr id="176" name=""/>
            <p:cNvSpPr/>
            <p:nvPr/>
          </p:nvSpPr>
          <p:spPr>
            <a:xfrm flipV="1">
              <a:off x="533412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116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438280" y="3505320"/>
            <a:ext cx="61722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Modeler (Query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315200" y="2361960"/>
            <a:ext cx="1295280" cy="609480"/>
            <a:chOff x="7315200" y="2361960"/>
            <a:chExt cx="1295280" cy="609480"/>
          </a:xfrm>
        </p:grpSpPr>
        <p:sp>
          <p:nvSpPr>
            <p:cNvPr id="180" name=""/>
            <p:cNvSpPr/>
            <p:nvPr/>
          </p:nvSpPr>
          <p:spPr>
            <a:xfrm flipV="1">
              <a:off x="731520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224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708240" y="22860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362320"/>
            <a:ext cx="14479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440" y="5548320"/>
            <a:ext cx="114768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562720"/>
            <a:ext cx="581040" cy="28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1720" y="5776920"/>
            <a:ext cx="89820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4" idx="2"/>
          </p:cNvCxnSpPr>
          <p:nvPr/>
        </p:nvCxnSpPr>
        <p:spPr>
          <a:xfrm rot="5400000">
            <a:off x="590040" y="3447720"/>
            <a:ext cx="610200" cy="5724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 rot="16200000">
            <a:off x="266400" y="4609440"/>
            <a:ext cx="1296360" cy="610560"/>
          </a:xfrm>
          <a:prstGeom prst="bentConnector3">
            <a:avLst>
              <a:gd name="adj1" fmla="val 783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429000" y="40384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40384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40384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505320"/>
            <a:ext cx="61722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Modeler (Query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5791320"/>
            <a:ext cx="617220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AN SNMP, WAN Bench, Host 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4952880"/>
            <a:ext cx="213336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952880"/>
            <a:ext cx="198144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9360" y="4419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3240" y="4419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6240" y="441972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324480" y="41911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mpedence Mismatch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663560" cy="10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550-11DB-418B-830A-4FCCAD8C76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Impedence Mism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1981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895480"/>
            <a:ext cx="2743200" cy="1524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h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 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4419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4864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720" y="1523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6E2-C50E-4812-8A64-88047E7AE3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L: Peter’s Prediction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057400"/>
            <a:ext cx="3657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23280" y="16747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22860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9625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457200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095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7360" y="58658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6400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7720" y="6170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3352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7432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51814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9907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99072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2666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st Mean, AR, MA, ARMA, ARIMA, ARF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886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st Mean, AR, MA, ARMA, ARIMA, ARF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aTh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0958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486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0292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029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5486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209680" y="5867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5867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6400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172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6095880"/>
            <a:ext cx="2362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54864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6400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2A9-A1BD-4C2A-AED9-030A98858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diction Service For Remos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6019920"/>
            <a:ext cx="5029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Device (eg, Coll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8981600">
            <a:off x="919440" y="47743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8981600">
            <a:off x="933840" y="49262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8981600">
            <a:off x="933840" y="51548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8981600">
            <a:off x="6355800" y="27165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8981600">
            <a:off x="6351480" y="40118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8981600">
            <a:off x="6351480" y="347868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625896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981600">
            <a:off x="53175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8981600">
            <a:off x="53751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8981600">
            <a:off x="53751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2682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981600">
            <a:off x="44031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981600">
            <a:off x="44607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981600">
            <a:off x="44607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43538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28184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0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411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828440" y="54100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981600">
            <a:off x="6482160" y="48506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8981600">
            <a:off x="550584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8981600">
            <a:off x="451512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4875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38098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5909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19810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4600" y="914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4724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848520" y="5550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1143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305920" y="38862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5238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07732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31920" y="159876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9144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190760" y="1219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762120"/>
            <a:ext cx="18288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31720" y="837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 R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58200" y="4495680"/>
            <a:ext cx="2286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5715000"/>
            <a:ext cx="3429000" cy="914400"/>
          </a:xfrm>
          <a:prstGeom prst="wedgeRoundRectCallout">
            <a:avLst>
              <a:gd name="adj1" fmla="val 37638"/>
              <a:gd name="adj2" fmla="val -60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41920" y="57898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769-CE01-4960-B922-66BF566BF8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8T18:26:00Z</dcterms:created>
  <dc:creator>Peter A. Dinda</dc:creator>
  <dc:description/>
  <dc:language>en-US</dc:language>
  <cp:lastModifiedBy>Peter A. Dinda</cp:lastModifiedBy>
  <cp:lastPrinted>1999-03-01T16:40:10Z</cp:lastPrinted>
  <dcterms:modified xsi:type="dcterms:W3CDTF">1999-03-01T16:59:19Z</dcterms:modified>
  <cp:revision>36</cp:revision>
  <dc:subject/>
  <dc:title>Implementing a Prediction Service</dc:title>
</cp:coreProperties>
</file>